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463-8B30-437E-8B6E-2B998975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F11D-CF1C-4C8A-ABA0-8D0CDB04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24D6-4EDD-45FF-A94B-15B975AE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216-65F6-47AE-8839-5FA016C8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8B6A-7058-4028-9857-AECD2CCD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C06-D152-42D0-8112-F1DA8E0E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BBD7-56F5-456A-8E8F-F07A705BB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DB8-31A2-4F5A-B03D-97B5910C5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A68-8C78-4885-8E3E-824D3A47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4FF-0CFC-43A2-BA8C-77B11678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9AE8-214A-4F36-9C11-577205E7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555-D11E-49D4-AD38-2F51C5CC7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884-66A0-4D59-B50A-7A7F1D1A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DFC-4539-4DED-BC17-8CB05FC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AE1-D85C-4988-96E3-2621416C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9A7-E4B2-42D3-A089-5697074B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ABA-A1EA-4E4E-937F-1C03EB9F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CA69-2702-4AC5-AC71-1BEAC245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9A8-E8D0-4679-B1D5-29CDA6C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C370-538C-4864-A3CB-0F975150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7A9B-22D1-4D0D-9648-E313CFE9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436D-3F14-4C57-AE8A-43F5DC3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6DD-C57F-464A-A0C0-6BA947F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C66-29CC-4846-A213-4A4DE47B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C15-3673-4497-913E-728B630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3A36-F2FB-44BC-9D31-A6225A0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6DC-D925-4318-AFA8-407BBBD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8BA-4ED2-4EAD-9C39-63753A8E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4144-82C7-4857-BFB4-886F4351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6B2-5F22-4DB0-9D3A-AEF3E990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CBB-48C4-4202-B18C-70C3B506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3F1-E830-46BA-A1B7-3C916BEE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4A4-5F4B-4725-9826-B8A2E88F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DE5-0138-4EE7-9B1F-BDA77AD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67E-A4EC-4684-92FC-E42B98F2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E31-2E32-4239-81DB-02BF109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1E3C-21E5-4D45-9AEF-7DB87AADE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34FB-B29D-4841-84C1-67B36F0C9C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Ge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4: M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the mole conversions to translate moles of unknown to the desired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4: M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the mole conversions to translate moles of unknown to the desired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2819520" y="3276720"/>
                <a:ext cx="1828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= n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2824200" y="4106880"/>
                <a:ext cx="3424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40 mo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2844720" y="5181480"/>
                <a:ext cx="1955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= 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 g Cu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es Mass Get Involv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When determining quantities that react and form in a chemical reaction, it is important to remember this: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In a practical setting, like a laboratory a chemist measures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mass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volum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or some other quantity, never mol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There is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scale that measures m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hemists can measure </a:t>
            </a:r>
            <a:r>
              <a:rPr b="1" lang="en-CA" sz="2800" spc="-1" strike="noStrike">
                <a:solidFill>
                  <a:srgbClr val="6767ff"/>
                </a:solidFill>
                <a:latin typeface="Arial Narrow"/>
              </a:rPr>
              <a:t>mass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6767ff"/>
                </a:solidFill>
                <a:latin typeface="Arial Narrow"/>
              </a:rPr>
              <a:t>solution volum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6767ff"/>
                </a:solidFill>
                <a:latin typeface="Arial Narrow"/>
              </a:rPr>
              <a:t>gas volum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…and convert them to moles using unitary rates (mole convers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Sample Stoichiometry Ques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15.00 grams of Aluminum reacts with excess Copper (II) chloride, determine the </a:t>
            </a: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theoretical yield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 (in grams) of Copper solid that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Each stoichiometry question is answered using a simple 4 step strategy.  The 4 steps never change, only the numbers and the equations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1: 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Write the balanced chemical reactio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1: 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Write the balanced chemical reactio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09480" y="403848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Al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(s)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CuCl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2(aq)</a:t>
            </a:r>
            <a:r>
              <a:rPr b="1" lang="en-C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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Cu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(s)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AlCl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3(aq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2: M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Determine the moles of the given substance, using the mole conver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2: M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Determine the moles of the given substance, using the mole conver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352680" y="3124080"/>
                <a:ext cx="17528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= m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3352680" y="4191120"/>
                <a:ext cx="3086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= 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g A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3352680" y="5410080"/>
                <a:ext cx="23637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60 mol Al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3: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a mole ratio to determine the moles of the unknow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3: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a mole ratio to determine the moles of the unknow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641680" y="3184560"/>
                <a:ext cx="2921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Cu = mol A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C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2666880" y="4191120"/>
                <a:ext cx="4114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Cu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60 mol A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C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2743200" y="5410080"/>
                <a:ext cx="3200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Cu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40 mol Cu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3:27:44Z</dcterms:created>
  <dc:creator>Paul Teetzel</dc:creator>
  <dc:description/>
  <dc:language>en-US</dc:language>
  <cp:lastModifiedBy>Caitlin</cp:lastModifiedBy>
  <dcterms:modified xsi:type="dcterms:W3CDTF">2012-04-15T23:19:27Z</dcterms:modified>
  <cp:revision>10</cp:revision>
  <dc:subject/>
  <dc:title>Chemistry 11</dc:title>
</cp:coreProperties>
</file>